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07C7-B344-44ED-AB6C-50B9B35AF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9A5F-44BA-48FB-8295-DC3C9543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E5D2-9A76-4DCB-87BD-A3F28E07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4345-AE30-42A1-8477-D74E1D6C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506E-E161-408F-A86D-AF72D10C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6A34-67E6-4C7B-BB33-6F3B6D2D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2325-543F-4259-BE49-1BBB274F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EFB4-976E-46DE-ABFC-1AE46FC3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C07B-E063-4AEF-9BEE-0BC6B995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6E09-2776-4B6D-AB6C-C1E612CB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28D9-11FC-4894-8A05-4F1533A6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BEB7-AA57-430F-890F-1C858170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8BEE-A723-456F-9DF7-B11C5CE4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3491-1A42-427E-89F4-05A6D791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923F-067A-4E2D-93A8-455C2AEF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4997-1940-49AA-882E-F064158AF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02CF-3924-41E8-BB5A-094AA9CD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1C14-4018-450D-97EA-ABBBCF83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1DC3-04EC-453F-BFDC-420C952A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9252-63CF-4664-BFC8-03ABE0B1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23DE-527F-41BD-B630-CA6F3326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4EEF-4A25-4F8A-9E87-76016F81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AC5E-867D-42A8-AB88-69726E7C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0C20-8183-417F-B672-436EE506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BAF6-F554-42D2-A652-46AF7B48680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CA8F-C85E-42AD-BEFA-5AA9FD2FF30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assignment revisited: interviewing and troubleshooting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earning English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sic Interviewing Ski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nsure the interviewee is comforta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plain the purpose of the study  and give assurance of confidentia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k permission to recor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k a series of ‘easy’ questions to start with (e.g. where are you from/how long have you been in England/at Aston?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ive the interviewee time to answer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n’t talk over the interviewe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nk about the kind of questions you ask (open/clos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 interested in the interviewee’s answers and respond to the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 interview is a social encounter: demonstrate interest in the interviewe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ferent kinds of inter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mi-structu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uctu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mi-structured interview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viewer has a list of topics or questions to be cove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viewer can ask other questions not on the list or can ‘probe’ to get an expanded response e.g. a follow up question, a period of silence, back channel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interview can go ‘off track’ for some tim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a ‘case study’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61760" y="2361960"/>
            <a:ext cx="7769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velopment of detailed, intensive knowledge about a single ‘case’, or of a small number of related cases’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Robson 2002:89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Individual case stud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etailed account of one person.  Tends to focus on antecedents, contextual factors, perceptions and attitudes preceding a known outcome (e.g. drug use; immigrant status).  Used to explore possible causes, determinants, factors, processes, experiences etc., contributing to the outcome.’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Robson 2002:181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obson C. 2002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Real World Research.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dition. Oxford: Blackwel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to include in a Case Stud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verview: why the cs is taking place; the issues being investigated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ocedures: how data were collected including access arrangements, resources available, schedule of meetings and so on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port: divide into sections, for example –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ducational and cultural backgrou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urpose for studying English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xperience of language learning in UK and at hom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anguage learning preferenc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iteracy in different languag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ttitude to English and its place in the worl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ttitudes to his/her bilingualism/multilingualis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commendations (about how learner can develop his/her English with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ference to skills and systems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ference lis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ppendix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to do we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the interview data/learner’s work to illustrate your poi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the academic literature to develop your argument/substantiate a clai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rite clearly but formal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fer to reading/discussions from the module, where releva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the learner’s output to inform your recommendations for improveme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her consider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member, you need ethics approval BEFORE starting your researc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nk about how to ensure your learner remains anonymou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lude a copy of your questions in the appendix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Jalal – Case Stud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at information does this case study offe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mment on the style of writ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y is the quotation included in ‘present situation’, do you thin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o are the ‘Points to Consider’ written for, do you thin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</cp:lastModifiedBy>
  <dcterms:modified xsi:type="dcterms:W3CDTF">2008-12-08T17:58:4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